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7760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88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7760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E1B-067A-43A8-9003-C9CE4EBD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226-E754-4482-8261-A5F92354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4C6-2866-47D1-906F-26AC091C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019-1A49-4728-9916-11E6811C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34E-3132-4A9E-8C84-A92B667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7600" y="444240"/>
            <a:ext cx="88902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1AB-5460-43C8-9003-0FC4CF2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E00-DF2C-49C2-8EDC-408490F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6DE-ECF5-4BA4-9EC1-C56C006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3AE-57CF-44B2-AB77-6D2DDEA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D53-3F1A-4F31-BFAA-E0BC1BDC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4E2-CF68-43F8-AF9E-B164E951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760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66680" y="171432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88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7760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66680" y="4202280"/>
            <a:ext cx="28461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1CF-C08B-41A0-8E0F-B5E9240F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7600" y="444240"/>
            <a:ext cx="88902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8400" y="420228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88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8400" y="1714320"/>
            <a:ext cx="431352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880" y="4202280"/>
            <a:ext cx="883944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1714320"/>
            <a:ext cx="88394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7960" y="1407960"/>
            <a:ext cx="8864640" cy="126720"/>
            <a:chOff x="507960" y="1407960"/>
            <a:chExt cx="8864640" cy="126720"/>
          </a:xfrm>
        </p:grpSpPr>
        <p:sp>
          <p:nvSpPr>
            <p:cNvPr id="3" name=""/>
            <p:cNvSpPr/>
            <p:nvPr/>
          </p:nvSpPr>
          <p:spPr>
            <a:xfrm>
              <a:off x="507960" y="1407960"/>
              <a:ext cx="886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7960" y="1534680"/>
              <a:ext cx="886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7960" y="1407960"/>
              <a:ext cx="8864640" cy="126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5915160" y="6461280"/>
            <a:ext cx="31240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d316d"/>
                </a:solidFill>
                <a:latin typeface="Comic Sans MS"/>
              </a:rPr>
              <a:t>WG1.3 – Foundations of System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077400" y="5759280"/>
            <a:ext cx="520560" cy="965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129520" y="446040"/>
            <a:ext cx="127476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876-4393-4A55-976F-2EB2444BFE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93880" y="4552560"/>
            <a:ext cx="40050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mic Sans MS"/>
              </a:rPr>
              <a:t>General Meeting</a:t>
            </a:r>
            <a:r>
              <a:rPr b="1" lang="en-US" sz="2800" spc="-1" strike="noStrike">
                <a:solidFill>
                  <a:srgbClr val="1822cd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ag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ch 23-24, 2007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33800" y="923760"/>
            <a:ext cx="3124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33"/>
                </a:solidFill>
                <a:latin typeface="Futura Condensed"/>
              </a:rPr>
              <a:t>WG1.3  –  Fou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33"/>
                </a:solidFill>
                <a:latin typeface="Futura Condensed"/>
              </a:rPr>
              <a:t>of System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92320" y="2114640"/>
            <a:ext cx="1320840" cy="2476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95840" y="2208240"/>
            <a:ext cx="35449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OB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ny other busi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Business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dennes/San Diego Min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ort on sponsored 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formatics Eur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xt meet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ADT’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 baseline="30000">
                <a:solidFill>
                  <a:srgbClr val="0d316d"/>
                </a:solidFill>
                <a:latin typeface="Comic Sans MS"/>
              </a:rPr>
              <a:t>Membe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y other busi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4950000"/>
            <a:ext cx="9291600" cy="0"/>
          </a:xfrm>
          <a:prstGeom prst="line">
            <a:avLst/>
          </a:prstGeom>
          <a:ln w="38160">
            <a:solidFill>
              <a:srgbClr val="0d31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ponsored activ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e574e"/>
                </a:solidFill>
                <a:latin typeface="Comic Sans MS"/>
              </a:rPr>
              <a:t>Fin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e574e"/>
                </a:solidFill>
                <a:latin typeface="Comic Sans MS"/>
              </a:rPr>
              <a:t>Ardennes/San Diego Min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eport on sponsored 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ADT’06: LNCS 440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n print (due April 1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CGT’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 Ugo Montana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FI/FLIRTS/HiFi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ll Mossakow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LCO’0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ll Mossakow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nformatics Eur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eting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his meeting (many thanks to the organisers!)</a:t>
            </a:r>
            <a:br>
              <a:rPr sz="2000"/>
            </a:b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/33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Members,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/14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Observers, 2 Young Researchers, 2 local g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meetings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anuary 2008 (Sierra Nevada, Spa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ugust 2008 (Hamilton, CA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une 2009, 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August/September with CAL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rch/April 2010 with ETAPS? 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June with 20th WAD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(Bremen ?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WADT’08 (Pisa, June 2008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Observers leave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r">
              <a:lnSpc>
                <a:spcPts val="27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mber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ianna missed 3 consecutive meetings (+ Bangalo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hammed missed 3 consecutive meet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rt, Bernd, Dusko, Peter Padawitz missed 2 consecutive meet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909720" y="4276800"/>
            <a:ext cx="8458200" cy="2295360"/>
          </a:xfrm>
          <a:prstGeom prst="wedgeEllipseCallout">
            <a:avLst>
              <a:gd name="adj1" fmla="val -28828"/>
              <a:gd name="adj2" fmla="val -805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 am back to Algeria for a new position at the Ministry of Higher Education. I tried my best to come, but it seems that it is impossible. Please forward my apologies and greetings to  the group. I hope that I will be able to come to the next meeting. Last year I have had the possibility to come but I was not able to get the vi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2640" y="3884760"/>
            <a:ext cx="4890960" cy="2295360"/>
          </a:xfrm>
          <a:prstGeom prst="wedgeEllipseCallout">
            <a:avLst>
              <a:gd name="adj1" fmla="val -13388"/>
              <a:gd name="adj2" fmla="val -805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 waited to answer to see if it was possible for me to attend to the meeting.Unfortunately, and with m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spleasure. I have to say that I cannot attend to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54360" y="4013280"/>
            <a:ext cx="6899400" cy="2295360"/>
          </a:xfrm>
          <a:prstGeom prst="wedgeEllipseCallout">
            <a:avLst>
              <a:gd name="adj1" fmla="val -40958"/>
              <a:gd name="adj2" fmla="val -8284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'm really sorry about this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s you know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is will be your 3rd consecutive absence (we are not counting Bangalore) and your membership will have to be discussed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s there anything that you would like me to say to the members during the business meet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erver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vitation to become member?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343320" y="3460680"/>
          <a:ext cx="4954680" cy="801720"/>
        </p:xfrm>
        <a:graphic>
          <a:graphicData uri="http://schemas.openxmlformats.org/drawingml/2006/table">
            <a:tbl>
              <a:tblPr/>
              <a:tblGrid>
                <a:gridCol w="2192400"/>
                <a:gridCol w="276228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ladimiro Sass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rcelona, Swansea, had to cancel Arden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ervers who missed this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52600" y="3025800"/>
          <a:ext cx="4163760" cy="3468600"/>
        </p:xfrm>
        <a:graphic>
          <a:graphicData uri="http://schemas.openxmlformats.org/drawingml/2006/table">
            <a:tbl>
              <a:tblPr/>
              <a:tblGrid>
                <a:gridCol w="1942920"/>
                <a:gridCol w="560520"/>
                <a:gridCol w="1163520"/>
                <a:gridCol w="4968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ＭＳ Ｐゴシック"/>
                        </a:rPr>
                        <a:t>ís C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Rame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John Tuc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miss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n Rut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e574e"/>
                          </a:solidFill>
                          <a:latin typeface="Comic Sans MS"/>
                        </a:rPr>
                        <a:t>Nazareno Agui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e574e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e574e"/>
                          </a:solidFill>
                          <a:latin typeface="Comic Sans MS"/>
                        </a:rPr>
                        <a:t>miss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van Diacones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ila Ribe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s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00" y="444240"/>
            <a:ext cx="8890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8880" y="1904760"/>
            <a:ext cx="8839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spcBef>
                <a:spcPts val="1250"/>
              </a:spcBef>
              <a:buClr>
                <a:srgbClr val="000000"/>
              </a:buClr>
              <a:buSzPct val="50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embership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80880">
              <a:lnSpc>
                <a:spcPts val="25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ervers at this meeting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79560" y="3048120"/>
          <a:ext cx="3549600" cy="3454200"/>
        </p:xfrm>
        <a:graphic>
          <a:graphicData uri="http://schemas.openxmlformats.org/drawingml/2006/table">
            <a:tbl>
              <a:tblPr/>
              <a:tblGrid>
                <a:gridCol w="2130480"/>
                <a:gridCol w="709560"/>
                <a:gridCol w="7095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fania Gn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bio Gadduc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cale Le G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ura Petruc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kus Roggenb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oletta Sabad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b Wal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7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4:15:41Z</dcterms:created>
  <dc:creator>Antonia Lopes</dc:creator>
  <dc:description/>
  <dc:language>en-US</dc:language>
  <cp:lastModifiedBy>José Luiz Fiadeiro</cp:lastModifiedBy>
  <cp:lastPrinted>2001-04-14T09:51:07Z</cp:lastPrinted>
  <dcterms:modified xsi:type="dcterms:W3CDTF">2007-03-24T08:00:47Z</dcterms:modified>
  <cp:revision>552</cp:revision>
  <dc:subject/>
  <dc:title>Introdução</dc:title>
</cp:coreProperties>
</file>