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A193-48C2-43C5-8180-51E4C8325B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afterno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part of a join project between my computer science laboratory and a research team in mathem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explore applications to software testing of results of combinatorial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 I  of N I can be approximated by this expression, where all the constants can be computed in polynomi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a very good approximation, even when n i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leads to this formulation of L N and to a simplification of the probability for drawing the 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at the conditions above are sufficient but not necessar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utomata is aperiodic if for any sufficiently large N, LN is not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ser informellement sur les deux sous-i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we have this formula with no more L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better, but it is even better to avoid to comput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 LIS L’AL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linear in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us go to a more realistic c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synchronisation on some action ALPHA between the components: all the components must perform ALPHA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LOBAL traces have thi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certain number of occurrences of ALPHA, and between them, interleavings of local sub-traces without 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follow the same primciple, with in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ce of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ce of the lengths of the M+1 interleavings, such that their sum plus M is equal t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each interleaving, use the method of the unsynchronised case on sub-automata without 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mplexity is in N POWER 4 (actually there are 4 sub-languages to be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onclusions…JE 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LTS is managed by INRIA and C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inal comment :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combinatorial theory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is a repository of scientific results and ideas applicable to random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MONTRER LE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brief recall on random wal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set of spaces, and transitions from state to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random walk is a sequence of states such that the next state is chosen u. a. r. among the successors of the current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dvantages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easy to i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 each step local knowledge of the graph is su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s it is applicable to larg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has been used for testing, in the area of protocols, for simulation, and more recently in some model-chec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there are some drawback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is a small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raph is unbalanced : there are more paths in the upper part than in the lower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random walks starts with the same probability by a or b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eans that the upper part is likely to be poorly covered and there may be redundancies in the lower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ur aim is to ensure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r a given length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a uniform distribution of the paths, when performing random w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 paths, but the method can be adapted to get better balanced coverage of some elements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olution is to bias in a suitable way the choice among the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LVK is the number of paths of length K that start from V, one draws VI among the successors of V with prob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PATHS OF LENGTH K-1 FROM V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PATHS OF LENGTH K FROM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How to compute these probabilities? Some good news are com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or a given length N of the random walks, We have this set of recursive definitions.L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HE COMPUTATION OF THESE COEFFICIENTS IS LINEAR IN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 is based on the use of generating functions and there are efficient implementations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F COURSE, it is proportional to the number of states of th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 WAS THE MOTIVATION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rithmetic complexity is in O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plexity w r t elementary operations is quadratic in the current implemented algorithm, but could be implemented in O(n </a:t>
            </a:r>
            <a:r>
              <a:rPr b="0" lang="fr-FR" sz="1200" spc="-1" strike="noStrike" baseline="30000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fr-FR" sz="1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TS is for Labelled Transi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you don’t like them, any model based on a graph will do (FSM, IO Automata, statechart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 LIS LENTEMENT ET CLA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circumvent the famous STATE EXPLOSION PROBLEM when modelling concurren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YOU CAN STOP LISTENING… UNLESS YOU ARE INTERESTED IN HOW WE ACHIEVE THIS SORT OF “MIRAC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us start with the simple ca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is a system made of R concurrent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no synchronisation: they live their lives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of you know that the resulting model can be hu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et of GLOBAL states is the cartesian product of the LOCAL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ransitions are local trans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LOBAL traces are interleavings of LOCAL tr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you are brave you may build the global model and apply the previous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ually it is possible for moderate sizes of the global model (several thousand, from our former use of the method for random structural te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key is : AVOID TO DEAL WITH THE GLOBA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nciple of th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 draw R lengths such that their sum is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bability correspon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INTERLEAVINGS OF R LOCAL TRACES OF THESE 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MBER OF PATHS OF LENGTH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n, for each component, draw u. a. r. a trace of the corresponding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ally, shuffle the R local tr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B WITH STEP 1: this formula is horrible to comp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758-9118-4A95-8A61-54580473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019-8615-4770-B6C5-EF01C655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BC8-CA4A-4E28-B66A-7749C692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0A2-DC0A-42F1-8ABA-91254E78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64E9-2D70-4DDA-A5F4-E4FB82E0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F5D9-81D5-46D6-BCCB-B41FC6BD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6A7C-503E-4224-B871-2A8A1248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ACD0-EBBA-4E88-AA70-90D19D2E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9DAD-2DD5-4CFE-8D02-0F6741AC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E057-EECA-4112-92F8-32CF9152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C594-C7E5-498F-BA44-33D91B35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4E7-DF1C-444B-A9FE-472062B2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C4DB-17B0-493B-BAF1-BAFD7895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26BF-0D34-4A3A-83F1-8C929AA1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2CBF-6EC2-4B7C-81EB-027A6D02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D629-F657-4474-9608-10E425BC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83AE-E6C8-4654-926B-0AE7C1B4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46F-C249-4C35-8685-73D6C7F4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7EA-B2C9-4BD2-9A1A-51159714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A30-F7E2-4766-BE17-AC53F4CE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FDA-D48D-47B0-B489-CFA4E6E8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4D3-685E-479A-A101-E3B2C130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083-A9D9-4C7E-B548-26E3E672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2B1-1392-4A22-B350-A16B4541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CB85-059F-4090-A0E3-E0D4AA747A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1680" y="0"/>
            <a:ext cx="1144800" cy="11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F5A1-1A5C-4E92-B93F-A04E460FCE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2457360"/>
            <a:ext cx="7953120" cy="4324320"/>
            <a:chOff x="0" y="2457360"/>
            <a:chExt cx="7953120" cy="4324320"/>
          </a:xfrm>
        </p:grpSpPr>
        <p:sp>
          <p:nvSpPr>
            <p:cNvPr id="50" name=""/>
            <p:cNvSpPr/>
            <p:nvPr/>
          </p:nvSpPr>
          <p:spPr>
            <a:xfrm>
              <a:off x="1470240" y="2666880"/>
              <a:ext cx="64828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0160" y="4038480"/>
              <a:ext cx="6660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3618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ortal.acm.org/toc.cfm?id=1145735&amp;coll=ACM&amp;dl=ACM&amp;type=proceeding&amp;idx=SERIES392&amp;part=Proceedings&amp;WantType=Proceedings&amp;title=International%20Symposium%20on%20Software%20Testing%20and%20Analysis&amp;CFID=2133955&amp;CFTOKEN=38698135" TargetMode="External"/><Relationship Id="rId2" Type="http://schemas.openxmlformats.org/officeDocument/2006/relationships/hyperlink" Target="http://portal.acm.org/toc.cfm?id=1145735&amp;coll=ACM&amp;dl=ACM&amp;type=proceeding&amp;idx=SERIES392&amp;part=Proceedings&amp;WantType=Proceedings&amp;title=International%20Symposium%20on%20Software%20Testing%20and%20Analysis&amp;CFID=2133955&amp;CFTOKEN=38698135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random sampling of traces in very larg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Denis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M.-C. Gau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.-D. Gourau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. Lassaign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. Peyronne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boratoire de Recherche en Informatiq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iv. Paris-Sud &amp; C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Équipe de Logique Mathématiq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iv. Paris-VII &amp; C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5CFA-D2CA-4DF5-A9FA-74AF4297D9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word shuff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uffling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ord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…, 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…,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or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∑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rawn uniformly among the interleaving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…, 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; n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∑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&gt;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e an integ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[1,r]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probability </a:t>
            </a:r>
            <a:r>
              <a:rPr b="1" i="1" lang="en-GB" sz="24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1" i="1" lang="en-GB" sz="24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1" i="1" lang="en-GB" sz="2400" spc="-1" strike="noStrike">
                <a:solidFill>
                  <a:srgbClr val="ff0033"/>
                </a:solidFill>
                <a:latin typeface="Times New Roman"/>
              </a:rPr>
              <a:t>/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the first letter of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ve the first letter of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 ; n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F26-EB18-4EE7-9903-9011FD380D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proximation of the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l(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eriodicity and strong connectivity of the automata 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n be computed in polynomial time w.r.t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|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erges to 1 at an exponentia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 [Flajolet et Sedjewick INRIA RR4103,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 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(n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~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…C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…+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n easy, technical, computation (see pap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444840" y="2743200"/>
                <a:ext cx="22543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23880" y="4572000"/>
                <a:ext cx="14115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2CE-E2D6-45DB-8F24-1BFBFA8423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2039760"/>
                <a:ext cx="34336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limUpp>
                                  <m:e/>
                                  <m:lim>
                                    <m:r>
                                      <m:t xml:space="preserve">n</m:t>
                                    </m:r>
                                  </m:lim>
                                </m:limUpp>
                              </m:e>
                              <m:li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¼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lim>
                            </m:limLow>
                          </m:e>
                        </m:d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¼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+¼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-150480" y="3429000"/>
            <a:ext cx="944496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’s better,… and moreover, there is no need to compute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e the set of integers {1…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aw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numbers in this set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/(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…+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 number of occurrences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plication to the choice of the n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3240" y="251460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w,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4216320"/>
            <a:ext cx="2451240" cy="1955880"/>
          </a:xfrm>
          <a:custGeom>
            <a:avLst/>
            <a:gdLst/>
            <a:ahLst/>
            <a:rect l="l" t="t" r="r" b="b"/>
            <a:pathLst>
              <a:path w="1544" h="1232">
                <a:moveTo>
                  <a:pt x="0" y="32"/>
                </a:moveTo>
                <a:cubicBezTo>
                  <a:pt x="316" y="16"/>
                  <a:pt x="632" y="0"/>
                  <a:pt x="864" y="80"/>
                </a:cubicBezTo>
                <a:cubicBezTo>
                  <a:pt x="1096" y="160"/>
                  <a:pt x="1280" y="400"/>
                  <a:pt x="1392" y="512"/>
                </a:cubicBezTo>
                <a:cubicBezTo>
                  <a:pt x="1504" y="624"/>
                  <a:pt x="1528" y="632"/>
                  <a:pt x="1536" y="752"/>
                </a:cubicBezTo>
                <a:cubicBezTo>
                  <a:pt x="1544" y="872"/>
                  <a:pt x="1492" y="1052"/>
                  <a:pt x="1440" y="1232"/>
                </a:cubicBezTo>
              </a:path>
            </a:pathLst>
          </a:custGeom>
          <a:noFill/>
          <a:ln cap="sq" w="284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880" y="4343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33"/>
                </a:solidFill>
                <a:latin typeface="Times New Roman"/>
              </a:rPr>
              <a:t>linear in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36E-BFDB-457E-8067-D7285C23FD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No need to build the product of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ff"/>
                </a:solidFill>
                <a:latin typeface="Times New Roman"/>
              </a:rPr>
              <a:t>Drawing the </a:t>
            </a:r>
            <a:r>
              <a:rPr b="0" i="1" lang="fr-FR" sz="2800" spc="-1" strike="noStrike">
                <a:solidFill>
                  <a:srgbClr val="3366ff"/>
                </a:solidFill>
                <a:latin typeface="Times New Roman"/>
              </a:rPr>
              <a:t>n</a:t>
            </a:r>
            <a:r>
              <a:rPr b="0" i="1" lang="fr-FR" sz="28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linear i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eprocessing (for the drawings above) : the computation of the 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polynomial /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Q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X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ff"/>
                </a:solidFill>
                <a:latin typeface="Times New Roman"/>
              </a:rPr>
              <a:t>Drawing the </a:t>
            </a:r>
            <a:r>
              <a:rPr b="0" i="1" lang="fr-FR" sz="2800" spc="-1" strike="noStrike">
                <a:solidFill>
                  <a:srgbClr val="3366ff"/>
                </a:solidFill>
                <a:latin typeface="Times New Roman"/>
              </a:rPr>
              <a:t>w</a:t>
            </a:r>
            <a:r>
              <a:rPr b="0" i="1" lang="fr-FR" sz="28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linear i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he corresponding preprocessings deal with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inear i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Q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X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ff"/>
                </a:solidFill>
                <a:latin typeface="Times New Roman"/>
              </a:rPr>
              <a:t>Drawing in the shuffle of the </a:t>
            </a:r>
            <a:r>
              <a:rPr b="0" i="1" lang="fr-FR" sz="2800" spc="-1" strike="noStrike">
                <a:solidFill>
                  <a:srgbClr val="3366ff"/>
                </a:solidFill>
                <a:latin typeface="Times New Roman"/>
              </a:rPr>
              <a:t>w</a:t>
            </a:r>
            <a:r>
              <a:rPr b="0" i="1" lang="fr-FR" sz="28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B52-51EE-4CE8-A80A-B255DE4714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 - The synchronised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30640" y="4495680"/>
            <a:ext cx="2286000" cy="152424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29120" y="223992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97680" y="231156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4880" y="26668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01600" y="4876920"/>
            <a:ext cx="78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2819520"/>
            <a:ext cx="1676160" cy="114300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295280" y="3161880"/>
            <a:ext cx="990720" cy="533880"/>
            <a:chOff x="1295280" y="3161880"/>
            <a:chExt cx="990720" cy="533880"/>
          </a:xfrm>
        </p:grpSpPr>
        <p:sp>
          <p:nvSpPr>
            <p:cNvPr id="284" name=""/>
            <p:cNvSpPr/>
            <p:nvPr/>
          </p:nvSpPr>
          <p:spPr>
            <a:xfrm flipV="1">
              <a:off x="1447560" y="3161880"/>
              <a:ext cx="45720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7560" y="3467160"/>
              <a:ext cx="2286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676160" y="3543120"/>
              <a:ext cx="228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04760" y="3162240"/>
              <a:ext cx="38124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904760" y="32382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057040" y="339084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75800" y="3619440"/>
              <a:ext cx="38124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600200" y="3162240"/>
              <a:ext cx="3045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447560" y="3162240"/>
              <a:ext cx="1526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346716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57600" y="3048120"/>
            <a:ext cx="1676520" cy="76176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924360" y="3238560"/>
            <a:ext cx="1295280" cy="380880"/>
            <a:chOff x="3924360" y="3238560"/>
            <a:chExt cx="1295280" cy="380880"/>
          </a:xfrm>
        </p:grpSpPr>
        <p:sp>
          <p:nvSpPr>
            <p:cNvPr id="296" name=""/>
            <p:cNvSpPr/>
            <p:nvPr/>
          </p:nvSpPr>
          <p:spPr>
            <a:xfrm flipV="1">
              <a:off x="4305240" y="3238560"/>
              <a:ext cx="5335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38760" y="3238560"/>
              <a:ext cx="38088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305240" y="361944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361944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435560" y="4800240"/>
            <a:ext cx="1447200" cy="991080"/>
            <a:chOff x="4435560" y="4800240"/>
            <a:chExt cx="1447200" cy="991080"/>
          </a:xfrm>
        </p:grpSpPr>
        <p:sp>
          <p:nvSpPr>
            <p:cNvPr id="301" name=""/>
            <p:cNvSpPr/>
            <p:nvPr/>
          </p:nvSpPr>
          <p:spPr>
            <a:xfrm flipV="1">
              <a:off x="4892400" y="4800240"/>
              <a:ext cx="60912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01880" y="4800600"/>
              <a:ext cx="30456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349240" y="5181480"/>
              <a:ext cx="4568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349600" y="4876560"/>
              <a:ext cx="15192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892040" y="5105520"/>
              <a:ext cx="45684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5560" y="510552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06800" y="5181480"/>
              <a:ext cx="7596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121000" y="5638680"/>
              <a:ext cx="76176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4892400" y="5181480"/>
              <a:ext cx="22824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2211480" y="3352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0" y="3124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872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4600" y="3657600"/>
            <a:ext cx="2286000" cy="1143000"/>
          </a:xfrm>
          <a:prstGeom prst="line">
            <a:avLst/>
          </a:prstGeom>
          <a:ln cap="sq" w="38160">
            <a:solidFill>
              <a:srgbClr val="8686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3429000"/>
            <a:ext cx="457200" cy="1219320"/>
          </a:xfrm>
          <a:prstGeom prst="line">
            <a:avLst/>
          </a:prstGeom>
          <a:ln cap="sq" w="38160">
            <a:solidFill>
              <a:srgbClr val="8686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514600" y="3429000"/>
            <a:ext cx="1676520" cy="114480"/>
          </a:xfrm>
          <a:prstGeom prst="line">
            <a:avLst/>
          </a:prstGeom>
          <a:ln cap="sq" w="38160">
            <a:solidFill>
              <a:srgbClr val="8686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cap="sq"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6AD-718B-4306-A52D-D08D5737E6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ynchronised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principle, with in addi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5200" indent="-259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an adequat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5200" indent="-259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with an adequate probability of length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…+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m = 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5200" indent="-259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wing, u. a. r., so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ased on sublanguages without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(r.n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7040" y="2819520"/>
            <a:ext cx="48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+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uffle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btraces without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752120" y="2590560"/>
            <a:ext cx="2210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2742840" y="2590920"/>
            <a:ext cx="121932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038120" y="2514240"/>
            <a:ext cx="22860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C4F-033F-4171-A1CB-DAE2796EB6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re on synchro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ce is som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=shuffle(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,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…, w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,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,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ongs to the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beginning language of </a:t>
            </a:r>
            <a:r>
              <a:rPr b="0" i="1" lang="en-GB" sz="2400" spc="-1" strike="noStrike">
                <a:solidFill>
                  <a:srgbClr val="3366ff"/>
                </a:solidFill>
                <a:latin typeface="Times New Roman"/>
              </a:rPr>
              <a:t>L</a:t>
            </a:r>
            <a:r>
              <a:rPr b="0" i="1" lang="en-GB" sz="24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fixes of some word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ntil a first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 &lt; k &lt; r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,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ongs to the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central language of </a:t>
            </a:r>
            <a:r>
              <a:rPr b="0" i="1" lang="en-GB" sz="2400" spc="-1" strike="noStrike">
                <a:solidFill>
                  <a:srgbClr val="3366ff"/>
                </a:solidFill>
                <a:latin typeface="Times New Roman"/>
              </a:rPr>
              <a:t>L</a:t>
            </a:r>
            <a:r>
              <a:rPr b="0" i="1" lang="en-GB" sz="24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-words of some word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etween two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0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,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ongs to the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ending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-words of some word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llowing one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0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4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 must be consi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there is 1 an additional special case for </a:t>
            </a:r>
            <a:r>
              <a:rPr b="0" lang="en-GB" sz="2000" spc="-1" strike="noStrike">
                <a:solidFill>
                  <a:srgbClr val="3366ff"/>
                </a:solidFill>
                <a:latin typeface="Times New Roman"/>
              </a:rPr>
              <a:t>traces with n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E97-18B6-43F8-AC70-06B538D722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form drawing of traces via local draw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ar in the size of the bigges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ynomial in the length of the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generalised to several synchro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-going practical validation (based on the VLTS benchmark suite). A master thesis is star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icable to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 Based Random Test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u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-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53C-8537-4B19-88B8-AE0C23D8AF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 calculus for the random generation of labelled combinatorial structu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Flajolet &amp; al., TCS 132 (1994) 1-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S: a MuPAD package for counting and randomly generating combinatorial structu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Dutour, Denise &amp; Zimmerman, FPSAC’98, 195-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 software: 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mupad-combinat.sourceforge.net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. Denise, M.-C. Gaudel, S.-D. Gouraud, R. Lasseigne, S. Peyronnet,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Uniform Random Sampling of Traces in very Large Models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rst ACM workshop on Random testing, 2006, pages 10-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Times New Roman"/>
              </a:rPr>
              <a:t>http://portal.acm.org/toc.cfm?id=1145735&amp;coll=ACM&amp;dl=ACM&amp;type=proceeding&amp;idx=SERIES392&amp;part=Proceedings&amp;WantType=Proceedings&amp;title=International%20Symposium%20on%20Software%20Testing%20and%20Analysis&amp;CFID=2133955&amp;CFTOKEN=386981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881-9C36-4F13-96DD-1D2B39422B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ality of the approxim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ct formula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(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n integer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complex numbers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n), …,R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ficiently computable from the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 of a “unique dominant pole”: there is a uniqu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|&gt;|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i≠j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n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s degre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(n) 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pproximation: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l(n)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~ C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&gt;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C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30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/ l(n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converges to 1 at an exponential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780000" y="2205000"/>
                <a:ext cx="37209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³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9B0-C215-4D70-9EBC-F22D5ACDDF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cal Random W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andom walk in the state space of a model (a control graph, etc)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equence of states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uch that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chosen uniformly at random among the successors of the state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easy to implement and it only requires local knowledge of th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erous application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ing (protocols [Mihail et Papadimitriou 1994]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ulation (Monte-Carlo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-checking ([Grosu 2004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some variants, the choice among the succ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y be bi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92888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2F3-B7F0-49CE-BBEB-4E9B0E61DA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rawback of classical random wal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76920" y="1708200"/>
            <a:ext cx="3809880" cy="3441600"/>
            <a:chOff x="4876920" y="1708200"/>
            <a:chExt cx="3809880" cy="3441600"/>
          </a:xfrm>
        </p:grpSpPr>
        <p:sp>
          <p:nvSpPr>
            <p:cNvPr id="104" name=""/>
            <p:cNvSpPr/>
            <p:nvPr/>
          </p:nvSpPr>
          <p:spPr>
            <a:xfrm>
              <a:off x="5218560" y="3736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0120" y="298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76040" y="2679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0200" y="3184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1640" y="3722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1640" y="2122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1640" y="448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42320" y="4255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3892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0440" y="3892680"/>
              <a:ext cx="838080" cy="45720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442584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0440" y="4044960"/>
              <a:ext cx="2133360" cy="1104840"/>
            </a:xfrm>
            <a:custGeom>
              <a:avLst/>
              <a:gdLst/>
              <a:ahLst/>
              <a:rect l="l" t="t" r="r" b="b"/>
              <a:pathLst>
                <a:path w="1344" h="696">
                  <a:moveTo>
                    <a:pt x="1344" y="432"/>
                  </a:moveTo>
                  <a:cubicBezTo>
                    <a:pt x="1000" y="564"/>
                    <a:pt x="656" y="696"/>
                    <a:pt x="432" y="624"/>
                  </a:cubicBezTo>
                  <a:cubicBezTo>
                    <a:pt x="208" y="552"/>
                    <a:pt x="104" y="27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37800" y="283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21960" y="3336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23760" y="3875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23760" y="2274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410440" y="3206520"/>
              <a:ext cx="685800" cy="60948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324840" y="2368080"/>
              <a:ext cx="1143000" cy="68580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324840" y="2825280"/>
              <a:ext cx="1143000" cy="30492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840" y="3206880"/>
              <a:ext cx="1143000" cy="7596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840" y="3282840"/>
              <a:ext cx="1143000" cy="60984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0120" y="2292480"/>
              <a:ext cx="685800" cy="15228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0120" y="2368440"/>
              <a:ext cx="685800" cy="60984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620120" y="252108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43800" y="2292480"/>
              <a:ext cx="762120" cy="11430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33591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543800" y="35874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3892680"/>
              <a:ext cx="609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4120" y="1949400"/>
              <a:ext cx="3174840" cy="1790640"/>
            </a:xfrm>
            <a:custGeom>
              <a:avLst/>
              <a:gdLst/>
              <a:ahLst/>
              <a:rect l="l" t="t" r="r" b="b"/>
              <a:pathLst>
                <a:path w="2000" h="1128">
                  <a:moveTo>
                    <a:pt x="1872" y="264"/>
                  </a:moveTo>
                  <a:cubicBezTo>
                    <a:pt x="1936" y="184"/>
                    <a:pt x="2000" y="104"/>
                    <a:pt x="1872" y="72"/>
                  </a:cubicBezTo>
                  <a:cubicBezTo>
                    <a:pt x="1744" y="40"/>
                    <a:pt x="1360" y="0"/>
                    <a:pt x="1104" y="72"/>
                  </a:cubicBezTo>
                  <a:cubicBezTo>
                    <a:pt x="848" y="144"/>
                    <a:pt x="520" y="328"/>
                    <a:pt x="336" y="504"/>
                  </a:cubicBezTo>
                  <a:cubicBezTo>
                    <a:pt x="152" y="680"/>
                    <a:pt x="76" y="904"/>
                    <a:pt x="0" y="1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43680" y="1708200"/>
              <a:ext cx="3543120" cy="1955880"/>
            </a:xfrm>
            <a:custGeom>
              <a:avLst/>
              <a:gdLst/>
              <a:ahLst/>
              <a:rect l="l" t="t" r="r" b="b"/>
              <a:pathLst>
                <a:path w="2232" h="1232">
                  <a:moveTo>
                    <a:pt x="2040" y="800"/>
                  </a:moveTo>
                  <a:cubicBezTo>
                    <a:pt x="2136" y="600"/>
                    <a:pt x="2232" y="400"/>
                    <a:pt x="2184" y="272"/>
                  </a:cubicBezTo>
                  <a:cubicBezTo>
                    <a:pt x="2136" y="144"/>
                    <a:pt x="1984" y="56"/>
                    <a:pt x="1752" y="32"/>
                  </a:cubicBezTo>
                  <a:cubicBezTo>
                    <a:pt x="1520" y="8"/>
                    <a:pt x="1064" y="0"/>
                    <a:pt x="792" y="128"/>
                  </a:cubicBezTo>
                  <a:cubicBezTo>
                    <a:pt x="520" y="256"/>
                    <a:pt x="240" y="616"/>
                    <a:pt x="120" y="800"/>
                  </a:cubicBezTo>
                  <a:cubicBezTo>
                    <a:pt x="0" y="984"/>
                    <a:pt x="36" y="1108"/>
                    <a:pt x="72" y="1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3905280"/>
              <a:ext cx="2857680" cy="520560"/>
            </a:xfrm>
            <a:custGeom>
              <a:avLst/>
              <a:gdLst/>
              <a:ahLst/>
              <a:rect l="l" t="t" r="r" b="b"/>
              <a:pathLst>
                <a:path w="1800" h="328">
                  <a:moveTo>
                    <a:pt x="1728" y="144"/>
                  </a:moveTo>
                  <a:cubicBezTo>
                    <a:pt x="1764" y="180"/>
                    <a:pt x="1800" y="216"/>
                    <a:pt x="1728" y="240"/>
                  </a:cubicBezTo>
                  <a:cubicBezTo>
                    <a:pt x="1656" y="264"/>
                    <a:pt x="1584" y="328"/>
                    <a:pt x="1296" y="288"/>
                  </a:cubicBezTo>
                  <a:cubicBezTo>
                    <a:pt x="1008" y="248"/>
                    <a:pt x="504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305920" y="305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21040" y="31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79000" y="4098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19400" y="2390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5000" y="20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1400" y="440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160" y="4722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3800" y="2368440"/>
              <a:ext cx="762120" cy="16002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43800" y="343548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842760" y="4191120"/>
            <a:ext cx="822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assical random walks, length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(a; c; d)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= 0.5 </a:t>
            </a:r>
            <a:r>
              <a:rPr b="0" i="1" lang="fr-FR" sz="2400" spc="-1" strike="noStrike">
                <a:solidFill>
                  <a:srgbClr val="ff0033"/>
                </a:solidFill>
                <a:latin typeface="Symbol"/>
                <a:ea typeface="Symbol"/>
              </a:rPr>
              <a:t>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3366ff"/>
                </a:solidFill>
                <a:latin typeface="Times New Roman"/>
                <a:ea typeface="ＭＳ Ｐゴシック"/>
              </a:rPr>
              <a:t>0.25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ff0033"/>
                </a:solidFill>
                <a:latin typeface="Symbol"/>
                <a:ea typeface="Symbol"/>
              </a:rPr>
              <a:t>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0.25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.03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(b; e; f)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form random sampling of traces, length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(a; c; d) = Pr(b; e; f)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920" y="238932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esulting coverag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endent on the topolog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237-1CB4-48A3-A1AA-67B1BFA401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generation of paths in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iven any vertex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(k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 number of paths of length k that start from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are on vertex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ccessor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 . . . , 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dition for path uniformity: choos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fr-FR" sz="3200" spc="-1" strike="noStrike" baseline="-25000">
                <a:solidFill>
                  <a:srgbClr val="000000"/>
                </a:solidFill>
                <a:latin typeface="Times New Roman"/>
              </a:rPr>
              <a:t>vi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 (k-1)/l</a:t>
            </a:r>
            <a:r>
              <a:rPr b="1" i="1" lang="fr-FR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31600" y="3116160"/>
            <a:ext cx="1421280" cy="619560"/>
            <a:chOff x="3531600" y="3116160"/>
            <a:chExt cx="1421280" cy="619560"/>
          </a:xfrm>
        </p:grpSpPr>
        <p:grpSp>
          <p:nvGrpSpPr>
            <p:cNvPr id="149" name=""/>
            <p:cNvGrpSpPr/>
            <p:nvPr/>
          </p:nvGrpSpPr>
          <p:grpSpPr>
            <a:xfrm>
              <a:off x="3531600" y="3260880"/>
              <a:ext cx="530640" cy="474840"/>
              <a:chOff x="3531600" y="3260880"/>
              <a:chExt cx="530640" cy="474840"/>
            </a:xfrm>
          </p:grpSpPr>
          <p:sp>
            <p:nvSpPr>
              <p:cNvPr id="150" name=""/>
              <p:cNvSpPr/>
              <p:nvPr/>
            </p:nvSpPr>
            <p:spPr>
              <a:xfrm>
                <a:off x="3729240" y="33368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•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31600" y="32608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911400" y="3116160"/>
              <a:ext cx="1041480" cy="601920"/>
              <a:chOff x="3911400" y="3116160"/>
              <a:chExt cx="1041480" cy="601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931920" y="3341880"/>
                <a:ext cx="1003320" cy="163440"/>
              </a:xfrm>
              <a:custGeom>
                <a:avLst/>
                <a:gdLst/>
                <a:ahLst/>
                <a:rect l="l" t="t" r="r" b="b"/>
                <a:pathLst>
                  <a:path w="632" h="103">
                    <a:moveTo>
                      <a:pt x="0" y="103"/>
                    </a:moveTo>
                    <a:cubicBezTo>
                      <a:pt x="11" y="75"/>
                      <a:pt x="30" y="34"/>
                      <a:pt x="58" y="26"/>
                    </a:cubicBezTo>
                    <a:cubicBezTo>
                      <a:pt x="102" y="36"/>
                      <a:pt x="87" y="49"/>
                      <a:pt x="116" y="71"/>
                    </a:cubicBezTo>
                    <a:cubicBezTo>
                      <a:pt x="126" y="79"/>
                      <a:pt x="142" y="79"/>
                      <a:pt x="155" y="84"/>
                    </a:cubicBezTo>
                    <a:cubicBezTo>
                      <a:pt x="218" y="75"/>
                      <a:pt x="263" y="62"/>
                      <a:pt x="323" y="52"/>
                    </a:cubicBezTo>
                    <a:cubicBezTo>
                      <a:pt x="337" y="29"/>
                      <a:pt x="338" y="15"/>
                      <a:pt x="361" y="0"/>
                    </a:cubicBezTo>
                    <a:cubicBezTo>
                      <a:pt x="397" y="23"/>
                      <a:pt x="468" y="81"/>
                      <a:pt x="516" y="84"/>
                    </a:cubicBezTo>
                    <a:cubicBezTo>
                      <a:pt x="554" y="86"/>
                      <a:pt x="593" y="84"/>
                      <a:pt x="632" y="84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11400" y="3514680"/>
                <a:ext cx="1014480" cy="203400"/>
              </a:xfrm>
              <a:custGeom>
                <a:avLst/>
                <a:gdLst/>
                <a:ahLst/>
                <a:rect l="l" t="t" r="r" b="b"/>
                <a:pathLst>
                  <a:path w="639" h="128">
                    <a:moveTo>
                      <a:pt x="0" y="1"/>
                    </a:moveTo>
                    <a:cubicBezTo>
                      <a:pt x="17" y="3"/>
                      <a:pt x="35" y="0"/>
                      <a:pt x="52" y="7"/>
                    </a:cubicBezTo>
                    <a:cubicBezTo>
                      <a:pt x="77" y="16"/>
                      <a:pt x="56" y="54"/>
                      <a:pt x="91" y="59"/>
                    </a:cubicBezTo>
                    <a:cubicBezTo>
                      <a:pt x="135" y="64"/>
                      <a:pt x="181" y="63"/>
                      <a:pt x="226" y="65"/>
                    </a:cubicBezTo>
                    <a:cubicBezTo>
                      <a:pt x="277" y="100"/>
                      <a:pt x="347" y="93"/>
                      <a:pt x="407" y="97"/>
                    </a:cubicBezTo>
                    <a:cubicBezTo>
                      <a:pt x="514" y="128"/>
                      <a:pt x="464" y="123"/>
                      <a:pt x="639" y="123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22560" y="3116160"/>
                <a:ext cx="973080" cy="358920"/>
              </a:xfrm>
              <a:custGeom>
                <a:avLst/>
                <a:gdLst/>
                <a:ahLst/>
                <a:rect l="l" t="t" r="r" b="b"/>
                <a:pathLst>
                  <a:path w="613" h="226">
                    <a:moveTo>
                      <a:pt x="0" y="226"/>
                    </a:moveTo>
                    <a:cubicBezTo>
                      <a:pt x="23" y="169"/>
                      <a:pt x="28" y="171"/>
                      <a:pt x="84" y="155"/>
                    </a:cubicBezTo>
                    <a:cubicBezTo>
                      <a:pt x="105" y="86"/>
                      <a:pt x="189" y="100"/>
                      <a:pt x="245" y="97"/>
                    </a:cubicBezTo>
                    <a:cubicBezTo>
                      <a:pt x="273" y="91"/>
                      <a:pt x="295" y="85"/>
                      <a:pt x="322" y="77"/>
                    </a:cubicBezTo>
                    <a:cubicBezTo>
                      <a:pt x="334" y="72"/>
                      <a:pt x="361" y="65"/>
                      <a:pt x="361" y="65"/>
                    </a:cubicBezTo>
                    <a:cubicBezTo>
                      <a:pt x="381" y="43"/>
                      <a:pt x="392" y="41"/>
                      <a:pt x="419" y="32"/>
                    </a:cubicBezTo>
                    <a:cubicBezTo>
                      <a:pt x="475" y="44"/>
                      <a:pt x="468" y="46"/>
                      <a:pt x="555" y="32"/>
                    </a:cubicBezTo>
                    <a:cubicBezTo>
                      <a:pt x="568" y="29"/>
                      <a:pt x="579" y="17"/>
                      <a:pt x="593" y="13"/>
                    </a:cubicBezTo>
                    <a:cubicBezTo>
                      <a:pt x="599" y="8"/>
                      <a:pt x="613" y="0"/>
                      <a:pt x="613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16200" y="3270240"/>
                <a:ext cx="388800" cy="71640"/>
              </a:xfrm>
              <a:custGeom>
                <a:avLst/>
                <a:gdLst/>
                <a:ahLst/>
                <a:rect l="l" t="t" r="r" b="b"/>
                <a:pathLst>
                  <a:path w="245" h="45">
                    <a:moveTo>
                      <a:pt x="0" y="45"/>
                    </a:moveTo>
                    <a:cubicBezTo>
                      <a:pt x="51" y="28"/>
                      <a:pt x="32" y="24"/>
                      <a:pt x="97" y="32"/>
                    </a:cubicBezTo>
                    <a:cubicBezTo>
                      <a:pt x="122" y="30"/>
                      <a:pt x="148" y="30"/>
                      <a:pt x="174" y="26"/>
                    </a:cubicBezTo>
                    <a:cubicBezTo>
                      <a:pt x="193" y="22"/>
                      <a:pt x="214" y="0"/>
                      <a:pt x="245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79680" y="3546360"/>
                <a:ext cx="635040" cy="71640"/>
              </a:xfrm>
              <a:custGeom>
                <a:avLst/>
                <a:gdLst/>
                <a:ahLst/>
                <a:rect l="l" t="t" r="r" b="b"/>
                <a:pathLst>
                  <a:path w="400" h="45">
                    <a:moveTo>
                      <a:pt x="0" y="45"/>
                    </a:moveTo>
                    <a:cubicBezTo>
                      <a:pt x="8" y="40"/>
                      <a:pt x="17" y="36"/>
                      <a:pt x="26" y="32"/>
                    </a:cubicBezTo>
                    <a:cubicBezTo>
                      <a:pt x="39" y="23"/>
                      <a:pt x="65" y="6"/>
                      <a:pt x="65" y="6"/>
                    </a:cubicBezTo>
                    <a:cubicBezTo>
                      <a:pt x="151" y="17"/>
                      <a:pt x="148" y="18"/>
                      <a:pt x="259" y="13"/>
                    </a:cubicBezTo>
                    <a:cubicBezTo>
                      <a:pt x="312" y="3"/>
                      <a:pt x="342" y="0"/>
                      <a:pt x="400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09880" y="3586320"/>
                <a:ext cx="243000" cy="11412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0" y="72"/>
                    </a:moveTo>
                    <a:cubicBezTo>
                      <a:pt x="30" y="63"/>
                      <a:pt x="57" y="63"/>
                      <a:pt x="84" y="46"/>
                    </a:cubicBezTo>
                    <a:cubicBezTo>
                      <a:pt x="99" y="23"/>
                      <a:pt x="114" y="24"/>
                      <a:pt x="129" y="1"/>
                    </a:cubicBezTo>
                    <a:cubicBezTo>
                      <a:pt x="153" y="8"/>
                      <a:pt x="149" y="0"/>
                      <a:pt x="149" y="2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3573000" y="4343400"/>
            <a:ext cx="1456200" cy="564480"/>
            <a:chOff x="3573000" y="4343400"/>
            <a:chExt cx="1456200" cy="564480"/>
          </a:xfrm>
        </p:grpSpPr>
        <p:grpSp>
          <p:nvGrpSpPr>
            <p:cNvPr id="160" name=""/>
            <p:cNvGrpSpPr/>
            <p:nvPr/>
          </p:nvGrpSpPr>
          <p:grpSpPr>
            <a:xfrm>
              <a:off x="3573000" y="4343400"/>
              <a:ext cx="530640" cy="474480"/>
              <a:chOff x="3573000" y="4343400"/>
              <a:chExt cx="530640" cy="474480"/>
            </a:xfrm>
          </p:grpSpPr>
          <p:sp>
            <p:nvSpPr>
              <p:cNvPr id="161" name=""/>
              <p:cNvSpPr/>
              <p:nvPr/>
            </p:nvSpPr>
            <p:spPr>
              <a:xfrm>
                <a:off x="3770640" y="44190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•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73000" y="43434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flipV="1">
              <a:off x="3952800" y="4343400"/>
              <a:ext cx="53352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952800" y="4495680"/>
              <a:ext cx="53352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52800" y="4647960"/>
              <a:ext cx="4572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35480" y="4494240"/>
              <a:ext cx="2250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486320" y="4343400"/>
              <a:ext cx="542880" cy="240840"/>
              <a:chOff x="4486320" y="4343400"/>
              <a:chExt cx="542880" cy="240840"/>
            </a:xfrm>
          </p:grpSpPr>
          <p:sp>
            <p:nvSpPr>
              <p:cNvPr id="168" name=""/>
              <p:cNvSpPr/>
              <p:nvPr/>
            </p:nvSpPr>
            <p:spPr>
              <a:xfrm>
                <a:off x="4486320" y="4343400"/>
                <a:ext cx="480960" cy="158400"/>
              </a:xfrm>
              <a:custGeom>
                <a:avLst/>
                <a:gdLst/>
                <a:ahLst/>
                <a:rect l="l" t="t" r="r" b="b"/>
                <a:pathLst>
                  <a:path w="303" h="100">
                    <a:moveTo>
                      <a:pt x="0" y="100"/>
                    </a:moveTo>
                    <a:cubicBezTo>
                      <a:pt x="6" y="93"/>
                      <a:pt x="10" y="83"/>
                      <a:pt x="19" y="81"/>
                    </a:cubicBezTo>
                    <a:cubicBezTo>
                      <a:pt x="50" y="72"/>
                      <a:pt x="116" y="68"/>
                      <a:pt x="116" y="68"/>
                    </a:cubicBezTo>
                    <a:cubicBezTo>
                      <a:pt x="145" y="47"/>
                      <a:pt x="173" y="41"/>
                      <a:pt x="206" y="29"/>
                    </a:cubicBezTo>
                    <a:cubicBezTo>
                      <a:pt x="236" y="0"/>
                      <a:pt x="240" y="3"/>
                      <a:pt x="284" y="10"/>
                    </a:cubicBezTo>
                    <a:cubicBezTo>
                      <a:pt x="290" y="12"/>
                      <a:pt x="303" y="16"/>
                      <a:pt x="303" y="16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95680" y="4501800"/>
                <a:ext cx="492120" cy="82440"/>
              </a:xfrm>
              <a:custGeom>
                <a:avLst/>
                <a:gdLst/>
                <a:ahLst/>
                <a:rect l="l" t="t" r="r" b="b"/>
                <a:pathLst>
                  <a:path w="310" h="52">
                    <a:moveTo>
                      <a:pt x="0" y="0"/>
                    </a:moveTo>
                    <a:cubicBezTo>
                      <a:pt x="49" y="7"/>
                      <a:pt x="88" y="27"/>
                      <a:pt x="136" y="39"/>
                    </a:cubicBezTo>
                    <a:cubicBezTo>
                      <a:pt x="151" y="34"/>
                      <a:pt x="165" y="27"/>
                      <a:pt x="181" y="26"/>
                    </a:cubicBezTo>
                    <a:cubicBezTo>
                      <a:pt x="225" y="23"/>
                      <a:pt x="266" y="52"/>
                      <a:pt x="310" y="52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13200" y="4468680"/>
                <a:ext cx="216000" cy="67680"/>
              </a:xfrm>
              <a:custGeom>
                <a:avLst/>
                <a:gdLst/>
                <a:ahLst/>
                <a:rect l="l" t="t" r="r" b="b"/>
                <a:pathLst>
                  <a:path w="136" h="43">
                    <a:moveTo>
                      <a:pt x="0" y="41"/>
                    </a:moveTo>
                    <a:cubicBezTo>
                      <a:pt x="45" y="25"/>
                      <a:pt x="26" y="32"/>
                      <a:pt x="58" y="21"/>
                    </a:cubicBezTo>
                    <a:cubicBezTo>
                      <a:pt x="69" y="28"/>
                      <a:pt x="81" y="43"/>
                      <a:pt x="97" y="28"/>
                    </a:cubicBezTo>
                    <a:cubicBezTo>
                      <a:pt x="101" y="22"/>
                      <a:pt x="98" y="12"/>
                      <a:pt x="103" y="8"/>
                    </a:cubicBezTo>
                    <a:cubicBezTo>
                      <a:pt x="110" y="0"/>
                      <a:pt x="126" y="2"/>
                      <a:pt x="136" y="2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5FC-4832-44ED-903D-3C6931EEA4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generation of paths of leng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 (or </a:t>
            </a: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7080" y="1855800"/>
            <a:ext cx="18784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0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n ≥ k &gt; 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79520" y="2743200"/>
                <a:ext cx="2368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4" name=""/>
          <p:cNvGrpSpPr/>
          <p:nvPr/>
        </p:nvGrpSpPr>
        <p:grpSpPr>
          <a:xfrm>
            <a:off x="4572000" y="2209680"/>
            <a:ext cx="3809880" cy="3441600"/>
            <a:chOff x="4572000" y="2209680"/>
            <a:chExt cx="3809880" cy="3441600"/>
          </a:xfrm>
        </p:grpSpPr>
        <p:sp>
          <p:nvSpPr>
            <p:cNvPr id="175" name=""/>
            <p:cNvSpPr/>
            <p:nvPr/>
          </p:nvSpPr>
          <p:spPr>
            <a:xfrm>
              <a:off x="4913640" y="423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85200" y="3487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71120" y="3181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5280" y="3686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56720" y="422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56720" y="2624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56720" y="4986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7400" y="4757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4394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4394160"/>
              <a:ext cx="838080" cy="45720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492732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5520" y="4546440"/>
              <a:ext cx="2133360" cy="1104840"/>
            </a:xfrm>
            <a:custGeom>
              <a:avLst/>
              <a:gdLst/>
              <a:ahLst/>
              <a:rect l="l" t="t" r="r" b="b"/>
              <a:pathLst>
                <a:path w="1344" h="696">
                  <a:moveTo>
                    <a:pt x="1344" y="432"/>
                  </a:moveTo>
                  <a:cubicBezTo>
                    <a:pt x="1000" y="564"/>
                    <a:pt x="656" y="696"/>
                    <a:pt x="432" y="624"/>
                  </a:cubicBezTo>
                  <a:cubicBezTo>
                    <a:pt x="208" y="552"/>
                    <a:pt x="104" y="27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32880" y="3333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17040" y="3838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18840" y="4376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18840" y="2776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105520" y="3708000"/>
              <a:ext cx="685800" cy="60948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019920" y="2869560"/>
              <a:ext cx="1143000" cy="68580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019920" y="3326760"/>
              <a:ext cx="1143000" cy="30492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19920" y="3708360"/>
              <a:ext cx="1143000" cy="7596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9920" y="3784320"/>
              <a:ext cx="1143000" cy="60984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5200" y="2793960"/>
              <a:ext cx="685800" cy="15228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5200" y="2869920"/>
              <a:ext cx="685800" cy="60984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315200" y="302256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8880" y="2793960"/>
              <a:ext cx="762120" cy="11430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38880" y="386064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238880" y="40888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8880" y="4394160"/>
              <a:ext cx="609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9200" y="2450880"/>
              <a:ext cx="3174840" cy="1790640"/>
            </a:xfrm>
            <a:custGeom>
              <a:avLst/>
              <a:gdLst/>
              <a:ahLst/>
              <a:rect l="l" t="t" r="r" b="b"/>
              <a:pathLst>
                <a:path w="2000" h="1128">
                  <a:moveTo>
                    <a:pt x="1872" y="264"/>
                  </a:moveTo>
                  <a:cubicBezTo>
                    <a:pt x="1936" y="184"/>
                    <a:pt x="2000" y="104"/>
                    <a:pt x="1872" y="72"/>
                  </a:cubicBezTo>
                  <a:cubicBezTo>
                    <a:pt x="1744" y="40"/>
                    <a:pt x="1360" y="0"/>
                    <a:pt x="1104" y="72"/>
                  </a:cubicBezTo>
                  <a:cubicBezTo>
                    <a:pt x="848" y="144"/>
                    <a:pt x="520" y="328"/>
                    <a:pt x="336" y="504"/>
                  </a:cubicBezTo>
                  <a:cubicBezTo>
                    <a:pt x="152" y="680"/>
                    <a:pt x="76" y="904"/>
                    <a:pt x="0" y="1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38760" y="2209680"/>
              <a:ext cx="3543120" cy="1955880"/>
            </a:xfrm>
            <a:custGeom>
              <a:avLst/>
              <a:gdLst/>
              <a:ahLst/>
              <a:rect l="l" t="t" r="r" b="b"/>
              <a:pathLst>
                <a:path w="2232" h="1232">
                  <a:moveTo>
                    <a:pt x="2040" y="800"/>
                  </a:moveTo>
                  <a:cubicBezTo>
                    <a:pt x="2136" y="600"/>
                    <a:pt x="2232" y="400"/>
                    <a:pt x="2184" y="272"/>
                  </a:cubicBezTo>
                  <a:cubicBezTo>
                    <a:pt x="2136" y="144"/>
                    <a:pt x="1984" y="56"/>
                    <a:pt x="1752" y="32"/>
                  </a:cubicBezTo>
                  <a:cubicBezTo>
                    <a:pt x="1520" y="8"/>
                    <a:pt x="1064" y="0"/>
                    <a:pt x="792" y="128"/>
                  </a:cubicBezTo>
                  <a:cubicBezTo>
                    <a:pt x="520" y="256"/>
                    <a:pt x="240" y="616"/>
                    <a:pt x="120" y="800"/>
                  </a:cubicBezTo>
                  <a:cubicBezTo>
                    <a:pt x="0" y="984"/>
                    <a:pt x="36" y="1108"/>
                    <a:pt x="72" y="1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57800" y="4406760"/>
              <a:ext cx="2857680" cy="520560"/>
            </a:xfrm>
            <a:custGeom>
              <a:avLst/>
              <a:gdLst/>
              <a:ahLst/>
              <a:rect l="l" t="t" r="r" b="b"/>
              <a:pathLst>
                <a:path w="1800" h="328">
                  <a:moveTo>
                    <a:pt x="1728" y="144"/>
                  </a:moveTo>
                  <a:cubicBezTo>
                    <a:pt x="1764" y="180"/>
                    <a:pt x="1800" y="216"/>
                    <a:pt x="1728" y="240"/>
                  </a:cubicBezTo>
                  <a:cubicBezTo>
                    <a:pt x="1656" y="264"/>
                    <a:pt x="1584" y="328"/>
                    <a:pt x="1296" y="288"/>
                  </a:cubicBezTo>
                  <a:cubicBezTo>
                    <a:pt x="1008" y="248"/>
                    <a:pt x="504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001000" y="3555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6120" y="3639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74080" y="4600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4480" y="2892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0080" y="2511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6480" y="4905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81240" y="5224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8880" y="2869920"/>
              <a:ext cx="762120" cy="16002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8880" y="39369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33520" y="502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8800" y="3836880"/>
            <a:ext cx="8159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Computation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i="1" lang="fr-FR" sz="2800" spc="-1" strike="noStrike" baseline="-25000">
                <a:solidFill>
                  <a:srgbClr val="ff0033"/>
                </a:solidFill>
                <a:latin typeface="Times New Roman"/>
              </a:rPr>
              <a:t>v’</a:t>
            </a: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(k-1)/l</a:t>
            </a:r>
            <a:r>
              <a:rPr b="0" i="1" lang="fr-FR" sz="2800" spc="-1" strike="noStrike" baseline="-25000">
                <a:solidFill>
                  <a:srgbClr val="ff0033"/>
                </a:solidFill>
                <a:latin typeface="Times New Roman"/>
              </a:rPr>
              <a:t>v</a:t>
            </a: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(k), </a:t>
            </a: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for all</a:t>
            </a: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 k ≤ n </a:t>
            </a: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quasi linear in </a:t>
            </a:r>
            <a:r>
              <a:rPr b="1" i="1" lang="en-GB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33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space requirement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: n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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 |G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“random generation of labelled combinatorial structures”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jolet &amp; al.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D9E-39CD-46EF-9011-ED14B09161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 of the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a model described as a set of concurrent 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possible to get (a very good approximation of)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global uniform random walk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building the glob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local uniform draw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aths in the component 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mplexity is linear in the size of the biggest component LTS and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max length of the wal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47A-62CB-4390-B360-14682125FA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30640" y="4495680"/>
            <a:ext cx="2286000" cy="152424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- Composition o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odules with no synchro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29120" y="223992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97680" y="231156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4880" y="26668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01600" y="4876920"/>
            <a:ext cx="78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819520"/>
            <a:ext cx="1676160" cy="114300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95280" y="3161880"/>
            <a:ext cx="990720" cy="533880"/>
            <a:chOff x="1295280" y="3161880"/>
            <a:chExt cx="990720" cy="533880"/>
          </a:xfrm>
        </p:grpSpPr>
        <p:sp>
          <p:nvSpPr>
            <p:cNvPr id="227" name=""/>
            <p:cNvSpPr/>
            <p:nvPr/>
          </p:nvSpPr>
          <p:spPr>
            <a:xfrm flipV="1">
              <a:off x="1447560" y="3161880"/>
              <a:ext cx="45720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7560" y="3467160"/>
              <a:ext cx="2286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676160" y="3543120"/>
              <a:ext cx="228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04760" y="3162240"/>
              <a:ext cx="38124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904760" y="32382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057040" y="339084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675800" y="3619440"/>
              <a:ext cx="38124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600200" y="3162240"/>
              <a:ext cx="3045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447560" y="3162240"/>
              <a:ext cx="1526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95280" y="346716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657600" y="3048120"/>
            <a:ext cx="1676520" cy="76176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924360" y="3238560"/>
            <a:ext cx="1295280" cy="380880"/>
            <a:chOff x="3924360" y="3238560"/>
            <a:chExt cx="1295280" cy="380880"/>
          </a:xfrm>
        </p:grpSpPr>
        <p:sp>
          <p:nvSpPr>
            <p:cNvPr id="239" name=""/>
            <p:cNvSpPr/>
            <p:nvPr/>
          </p:nvSpPr>
          <p:spPr>
            <a:xfrm flipV="1">
              <a:off x="4305240" y="3238560"/>
              <a:ext cx="5335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38760" y="3238560"/>
              <a:ext cx="38088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305240" y="361944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24360" y="361944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435560" y="4800240"/>
            <a:ext cx="1447200" cy="991080"/>
            <a:chOff x="4435560" y="4800240"/>
            <a:chExt cx="1447200" cy="991080"/>
          </a:xfrm>
        </p:grpSpPr>
        <p:sp>
          <p:nvSpPr>
            <p:cNvPr id="244" name=""/>
            <p:cNvSpPr/>
            <p:nvPr/>
          </p:nvSpPr>
          <p:spPr>
            <a:xfrm flipV="1">
              <a:off x="4892400" y="4800240"/>
              <a:ext cx="60912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01880" y="4800600"/>
              <a:ext cx="30456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349240" y="5181480"/>
              <a:ext cx="4568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349600" y="4876560"/>
              <a:ext cx="15192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4892040" y="5105520"/>
              <a:ext cx="45684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35560" y="510552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06800" y="5181480"/>
              <a:ext cx="7596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21000" y="5638680"/>
              <a:ext cx="76176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4892400" y="5181480"/>
              <a:ext cx="22824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85800" y="2133720"/>
            <a:ext cx="7924680" cy="4038480"/>
          </a:xfrm>
          <a:prstGeom prst="rect">
            <a:avLst/>
          </a:prstGeom>
          <a:noFill/>
          <a:ln cap="sq"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523-371B-409E-B76E-B53D6CE36B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69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osition o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odule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Product of the </a:t>
            </a:r>
            <a:r>
              <a:rPr b="0" i="1" lang="en-GB" sz="24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 underlying automata </a:t>
            </a:r>
            <a:r>
              <a:rPr b="0" i="1" lang="en-GB" sz="24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i="1" lang="en-GB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with labels in </a:t>
            </a:r>
            <a:r>
              <a:rPr b="0" i="1" lang="en-GB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s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the states of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nguage (traces)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uffle (interleavi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the words) of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languages recognised by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Brute force method for uniform trace gen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ruction of the global automaton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O(∏|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. ∑ |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processing and generation of traces of length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O(n . ∏|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. ∑ |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actable wh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/or som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|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big </a:t>
            </a:r>
            <a:r>
              <a:rPr b="0" i="1" lang="en-GB" sz="2000" spc="-1" strike="noStrike">
                <a:solidFill>
                  <a:srgbClr val="3366ff"/>
                </a:solidFill>
                <a:latin typeface="Times New Roman"/>
              </a:rPr>
              <a:t>(NB: tractable on moderate sizes: yesterday it has worked with 18000 states and 76000 transitions, n =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D26-D6D4-4A19-8D96-37959B6A28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generation of global traces without glob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choose the lengths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, …n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races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3200" indent="-48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draw uniformly at random some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Shuffle the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r w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with a classical algorithm that ensures uniformity of shuff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key poi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o need to comput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(n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o get a very good approximation of uniformity   </a:t>
            </a:r>
            <a:r>
              <a:rPr b="1" lang="en-GB" sz="2800" spc="-1" strike="noStrike">
                <a:solidFill>
                  <a:srgbClr val="ff0033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075200" y="2625840"/>
                <a:ext cx="3468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¼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limUpp>
                                  <m:e/>
                                  <m:lim>
                                    <m:r>
                                      <m:t xml:space="preserve">n</m:t>
                                    </m:r>
                                  </m:lim>
                                </m:limUpp>
                              </m:e>
                              <m:li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¼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lim>
                            </m:limLow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¼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7779240" y="3124080"/>
            <a:ext cx="1148400" cy="642600"/>
          </a:xfrm>
          <a:prstGeom prst="rect">
            <a:avLst/>
          </a:prstGeom>
          <a:noFill/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# trac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length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705360" y="3429000"/>
            <a:ext cx="1066680" cy="76320"/>
          </a:xfrm>
          <a:prstGeom prst="line">
            <a:avLst/>
          </a:prstGeom>
          <a:ln cap="sq" w="1260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558-3FD3-453A-880B-9A7AA15246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lastPrinted>2007-01-10T15:19:52Z</cp:lastPrinted>
  <dcterms:modified xsi:type="dcterms:W3CDTF">2007-03-23T11:05:15Z</dcterms:modified>
  <cp:revision>87</cp:revision>
  <dc:subject/>
  <dc:title>Uniform random sampling of traces in very large models</dc:title>
</cp:coreProperties>
</file>